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A823A32-7F94-459E-9580-0AF9DFBBD2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% Recall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% Concep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% Objec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% No Prio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% Concep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% Objec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sons for Not Particip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, 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itation, E-mail Di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0C248CC-704D-4CA2-B74C-1BA8084B55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 E-mail al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Based on Relational Databa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Search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Usage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0ABF-B8C1-46E1-9BCE-F31CC4417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A0EA-D66A-443C-BD3C-0A72AF8D0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D9D2-E748-4D11-873B-E6B29A628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7238-509A-440C-80FB-586D1F061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3A8D0-BC78-4EBB-9BE0-900E3720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C4F3-4009-4930-872A-A88596FC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08ECC-4FF1-40FF-86A3-3B2B0B1B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34FC7-4510-43F6-A28E-6E3D5C0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911F5-3DC6-418E-9D04-2ABBDD8C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012FF-85A1-4AED-B8DA-3F9EC5F2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4EF89-4C99-491E-83D4-0315BFE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818E-5943-4D02-A66E-98EEF0F99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2CD8-4163-4F7D-9436-A15EC97B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29A83-7AEC-4187-ACC6-F4861857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2A5F-812D-4328-A058-DCAB5EAB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79F8F-452E-421D-B963-E0336F69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3440E-C132-438A-8B25-95B32F7D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82DB-84F0-4463-A908-9707427C0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469E-F14D-4472-B1B3-51E428A05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0AE8-B21A-4184-A383-CF5576611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C1DD-989F-4EDB-B67C-35D2ABD63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71AE-1278-415A-BBFB-8FFA598E0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FE5E-9DB2-403F-A8E9-3D7BB43F4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13B8-1EC5-4C61-8642-B757E3F7D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D2DC-81E1-4E11-BC5E-81898BC99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of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533520"/>
            <a:ext cx="8542080" cy="1052280"/>
            <a:chOff x="152280" y="533520"/>
            <a:chExt cx="8542080" cy="1052280"/>
          </a:xfrm>
        </p:grpSpPr>
        <p:sp>
          <p:nvSpPr>
            <p:cNvPr id="4" name=""/>
            <p:cNvSpPr/>
            <p:nvPr/>
          </p:nvSpPr>
          <p:spPr>
            <a:xfrm>
              <a:off x="442800" y="6415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36360" y="10638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9907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7320" y="533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8000" y="132408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" name="logo-needs-sponsor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27008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87280" y="1981080"/>
            <a:ext cx="8856360" cy="1052640"/>
            <a:chOff x="287280" y="1981080"/>
            <a:chExt cx="885636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572760" y="2089080"/>
              <a:ext cx="698760" cy="474840"/>
              <a:chOff x="572760" y="2089080"/>
              <a:chExt cx="6987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572760" y="2089080"/>
                <a:ext cx="4298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8960" y="2089080"/>
                <a:ext cx="32256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94440" y="2511360"/>
              <a:ext cx="725400" cy="474840"/>
              <a:chOff x="694440" y="2511360"/>
              <a:chExt cx="72540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694440" y="2511360"/>
                <a:ext cx="4143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56960" y="2511360"/>
                <a:ext cx="3628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87280" y="2438280"/>
              <a:ext cx="55080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1520" y="1981080"/>
              <a:ext cx="3096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97960" y="2803320"/>
              <a:ext cx="854568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AE95-1B49-4D9F-8E5F-56EA44BB79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Building a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Digital Learning Community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for Faculty on the Interne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son Puzniak, Flora McMartin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ice Agogi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ational Engineering Digital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 at Berkel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EE - St. Louis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r Study Results*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782720"/>
          <a:ext cx="7162920" cy="43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82720"/>
                    <a:ext cx="716292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E09B-C288-45DF-82B2-41C46D3A84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99072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llow-up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lephone Inter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- participants and lurkers identified by E-mail survey of all invitees (n = 8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interviews cond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Knowledge of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 affec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for non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 for improving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4339-A9C6-4E65-8EDA-91204131C8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lephone Interview Resul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2884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4E49-9DB2-4D93-A6A9-5CDAA8C863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85800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lephone Interview Resul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56E5-51AA-4281-B960-A96B0A402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agogy-Centered communication model more successful than Object-Cent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ed threaded discussion tool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choice for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is primary driving factor for particip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onceptions exist regarding on-line particip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2C8F-C1A5-4DEB-8534-125ECF86F8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utur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do public discussion participation levels differ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discussion topics motivate participation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 encapsulating discussions of value to users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the critical mass of users necessary for building an effective communit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6F8C-8AB7-49F6-9765-C85A12CA25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5722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line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scu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0840-6AEF-47F2-B446-5AE08C334A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8120" y="533520"/>
            <a:ext cx="5497560" cy="3673440"/>
          </a:xfrm>
          <a:custGeom>
            <a:avLst/>
            <a:gdLst/>
            <a:ahLst/>
            <a:rect l="l" t="t" r="r" b="b"/>
            <a:pathLst>
              <a:path w="3463" h="2314">
                <a:moveTo>
                  <a:pt x="3337" y="13"/>
                </a:moveTo>
                <a:lnTo>
                  <a:pt x="3318" y="0"/>
                </a:lnTo>
                <a:lnTo>
                  <a:pt x="3299" y="0"/>
                </a:lnTo>
                <a:lnTo>
                  <a:pt x="3287" y="2"/>
                </a:lnTo>
                <a:lnTo>
                  <a:pt x="3278" y="18"/>
                </a:lnTo>
                <a:lnTo>
                  <a:pt x="3263" y="13"/>
                </a:lnTo>
                <a:lnTo>
                  <a:pt x="3252" y="18"/>
                </a:lnTo>
                <a:lnTo>
                  <a:pt x="3244" y="41"/>
                </a:lnTo>
                <a:lnTo>
                  <a:pt x="3219" y="93"/>
                </a:lnTo>
                <a:lnTo>
                  <a:pt x="3231" y="125"/>
                </a:lnTo>
                <a:lnTo>
                  <a:pt x="3222" y="163"/>
                </a:lnTo>
                <a:lnTo>
                  <a:pt x="3230" y="179"/>
                </a:lnTo>
                <a:lnTo>
                  <a:pt x="3229" y="210"/>
                </a:lnTo>
                <a:lnTo>
                  <a:pt x="3225" y="238"/>
                </a:lnTo>
                <a:lnTo>
                  <a:pt x="3209" y="242"/>
                </a:lnTo>
                <a:lnTo>
                  <a:pt x="3198" y="226"/>
                </a:lnTo>
                <a:lnTo>
                  <a:pt x="3174" y="287"/>
                </a:lnTo>
                <a:lnTo>
                  <a:pt x="3129" y="300"/>
                </a:lnTo>
                <a:lnTo>
                  <a:pt x="3069" y="320"/>
                </a:lnTo>
                <a:lnTo>
                  <a:pt x="3026" y="331"/>
                </a:lnTo>
                <a:lnTo>
                  <a:pt x="2992" y="364"/>
                </a:lnTo>
                <a:lnTo>
                  <a:pt x="2970" y="399"/>
                </a:lnTo>
                <a:lnTo>
                  <a:pt x="2950" y="400"/>
                </a:lnTo>
                <a:lnTo>
                  <a:pt x="2928" y="438"/>
                </a:lnTo>
                <a:lnTo>
                  <a:pt x="2938" y="452"/>
                </a:lnTo>
                <a:lnTo>
                  <a:pt x="2943" y="483"/>
                </a:lnTo>
                <a:lnTo>
                  <a:pt x="2932" y="493"/>
                </a:lnTo>
                <a:lnTo>
                  <a:pt x="2917" y="516"/>
                </a:lnTo>
                <a:lnTo>
                  <a:pt x="2901" y="522"/>
                </a:lnTo>
                <a:lnTo>
                  <a:pt x="2895" y="537"/>
                </a:lnTo>
                <a:lnTo>
                  <a:pt x="2866" y="542"/>
                </a:lnTo>
                <a:lnTo>
                  <a:pt x="2826" y="543"/>
                </a:lnTo>
                <a:lnTo>
                  <a:pt x="2794" y="564"/>
                </a:lnTo>
                <a:lnTo>
                  <a:pt x="2798" y="599"/>
                </a:lnTo>
                <a:lnTo>
                  <a:pt x="2789" y="627"/>
                </a:lnTo>
                <a:lnTo>
                  <a:pt x="2763" y="665"/>
                </a:lnTo>
                <a:lnTo>
                  <a:pt x="2730" y="701"/>
                </a:lnTo>
                <a:lnTo>
                  <a:pt x="2696" y="714"/>
                </a:lnTo>
                <a:lnTo>
                  <a:pt x="2686" y="740"/>
                </a:lnTo>
                <a:lnTo>
                  <a:pt x="2619" y="770"/>
                </a:lnTo>
                <a:lnTo>
                  <a:pt x="2582" y="761"/>
                </a:lnTo>
                <a:lnTo>
                  <a:pt x="2575" y="752"/>
                </a:lnTo>
                <a:lnTo>
                  <a:pt x="2592" y="734"/>
                </a:lnTo>
                <a:lnTo>
                  <a:pt x="2594" y="710"/>
                </a:lnTo>
                <a:lnTo>
                  <a:pt x="2581" y="689"/>
                </a:lnTo>
                <a:lnTo>
                  <a:pt x="2594" y="680"/>
                </a:lnTo>
                <a:lnTo>
                  <a:pt x="2614" y="683"/>
                </a:lnTo>
                <a:lnTo>
                  <a:pt x="2611" y="638"/>
                </a:lnTo>
                <a:lnTo>
                  <a:pt x="2607" y="601"/>
                </a:lnTo>
                <a:lnTo>
                  <a:pt x="2596" y="567"/>
                </a:lnTo>
                <a:lnTo>
                  <a:pt x="2578" y="552"/>
                </a:lnTo>
                <a:lnTo>
                  <a:pt x="2554" y="543"/>
                </a:lnTo>
                <a:lnTo>
                  <a:pt x="2534" y="558"/>
                </a:lnTo>
                <a:lnTo>
                  <a:pt x="2515" y="586"/>
                </a:lnTo>
                <a:lnTo>
                  <a:pt x="2496" y="579"/>
                </a:lnTo>
                <a:lnTo>
                  <a:pt x="2504" y="566"/>
                </a:lnTo>
                <a:lnTo>
                  <a:pt x="2513" y="558"/>
                </a:lnTo>
                <a:lnTo>
                  <a:pt x="2525" y="549"/>
                </a:lnTo>
                <a:lnTo>
                  <a:pt x="2543" y="525"/>
                </a:lnTo>
                <a:lnTo>
                  <a:pt x="2529" y="477"/>
                </a:lnTo>
                <a:lnTo>
                  <a:pt x="2525" y="440"/>
                </a:lnTo>
                <a:lnTo>
                  <a:pt x="2496" y="433"/>
                </a:lnTo>
                <a:lnTo>
                  <a:pt x="2444" y="399"/>
                </a:lnTo>
                <a:lnTo>
                  <a:pt x="2414" y="414"/>
                </a:lnTo>
                <a:lnTo>
                  <a:pt x="2408" y="431"/>
                </a:lnTo>
                <a:lnTo>
                  <a:pt x="2415" y="445"/>
                </a:lnTo>
                <a:lnTo>
                  <a:pt x="2399" y="452"/>
                </a:lnTo>
                <a:lnTo>
                  <a:pt x="2399" y="480"/>
                </a:lnTo>
                <a:lnTo>
                  <a:pt x="2385" y="480"/>
                </a:lnTo>
                <a:lnTo>
                  <a:pt x="2363" y="502"/>
                </a:lnTo>
                <a:lnTo>
                  <a:pt x="2355" y="519"/>
                </a:lnTo>
                <a:lnTo>
                  <a:pt x="2347" y="537"/>
                </a:lnTo>
                <a:lnTo>
                  <a:pt x="2346" y="581"/>
                </a:lnTo>
                <a:lnTo>
                  <a:pt x="2342" y="630"/>
                </a:lnTo>
                <a:lnTo>
                  <a:pt x="2353" y="658"/>
                </a:lnTo>
                <a:lnTo>
                  <a:pt x="2368" y="704"/>
                </a:lnTo>
                <a:lnTo>
                  <a:pt x="2368" y="758"/>
                </a:lnTo>
                <a:lnTo>
                  <a:pt x="2355" y="821"/>
                </a:lnTo>
                <a:lnTo>
                  <a:pt x="2329" y="826"/>
                </a:lnTo>
                <a:lnTo>
                  <a:pt x="2313" y="814"/>
                </a:lnTo>
                <a:lnTo>
                  <a:pt x="2299" y="791"/>
                </a:lnTo>
                <a:lnTo>
                  <a:pt x="2285" y="758"/>
                </a:lnTo>
                <a:lnTo>
                  <a:pt x="2287" y="716"/>
                </a:lnTo>
                <a:lnTo>
                  <a:pt x="2287" y="686"/>
                </a:lnTo>
                <a:lnTo>
                  <a:pt x="2274" y="660"/>
                </a:lnTo>
                <a:lnTo>
                  <a:pt x="2276" y="604"/>
                </a:lnTo>
                <a:lnTo>
                  <a:pt x="2283" y="560"/>
                </a:lnTo>
                <a:lnTo>
                  <a:pt x="2286" y="537"/>
                </a:lnTo>
                <a:lnTo>
                  <a:pt x="2310" y="499"/>
                </a:lnTo>
                <a:lnTo>
                  <a:pt x="2297" y="483"/>
                </a:lnTo>
                <a:lnTo>
                  <a:pt x="2285" y="490"/>
                </a:lnTo>
                <a:lnTo>
                  <a:pt x="2276" y="512"/>
                </a:lnTo>
                <a:lnTo>
                  <a:pt x="2247" y="545"/>
                </a:lnTo>
                <a:lnTo>
                  <a:pt x="2263" y="517"/>
                </a:lnTo>
                <a:lnTo>
                  <a:pt x="2265" y="498"/>
                </a:lnTo>
                <a:lnTo>
                  <a:pt x="2259" y="474"/>
                </a:lnTo>
                <a:lnTo>
                  <a:pt x="2263" y="453"/>
                </a:lnTo>
                <a:lnTo>
                  <a:pt x="2276" y="433"/>
                </a:lnTo>
                <a:lnTo>
                  <a:pt x="2278" y="405"/>
                </a:lnTo>
                <a:lnTo>
                  <a:pt x="2285" y="389"/>
                </a:lnTo>
                <a:lnTo>
                  <a:pt x="2289" y="415"/>
                </a:lnTo>
                <a:lnTo>
                  <a:pt x="2315" y="417"/>
                </a:lnTo>
                <a:lnTo>
                  <a:pt x="2329" y="400"/>
                </a:lnTo>
                <a:lnTo>
                  <a:pt x="2355" y="388"/>
                </a:lnTo>
                <a:lnTo>
                  <a:pt x="2382" y="385"/>
                </a:lnTo>
                <a:lnTo>
                  <a:pt x="2393" y="396"/>
                </a:lnTo>
                <a:lnTo>
                  <a:pt x="2414" y="391"/>
                </a:lnTo>
                <a:lnTo>
                  <a:pt x="2445" y="384"/>
                </a:lnTo>
                <a:lnTo>
                  <a:pt x="2462" y="382"/>
                </a:lnTo>
                <a:lnTo>
                  <a:pt x="2465" y="367"/>
                </a:lnTo>
                <a:lnTo>
                  <a:pt x="2467" y="367"/>
                </a:lnTo>
                <a:lnTo>
                  <a:pt x="2454" y="349"/>
                </a:lnTo>
                <a:lnTo>
                  <a:pt x="2435" y="341"/>
                </a:lnTo>
                <a:lnTo>
                  <a:pt x="2405" y="330"/>
                </a:lnTo>
                <a:lnTo>
                  <a:pt x="2379" y="330"/>
                </a:lnTo>
                <a:lnTo>
                  <a:pt x="2363" y="327"/>
                </a:lnTo>
                <a:lnTo>
                  <a:pt x="2355" y="315"/>
                </a:lnTo>
                <a:lnTo>
                  <a:pt x="2324" y="310"/>
                </a:lnTo>
                <a:lnTo>
                  <a:pt x="2297" y="316"/>
                </a:lnTo>
                <a:lnTo>
                  <a:pt x="2276" y="320"/>
                </a:lnTo>
                <a:lnTo>
                  <a:pt x="2257" y="341"/>
                </a:lnTo>
                <a:lnTo>
                  <a:pt x="2229" y="327"/>
                </a:lnTo>
                <a:lnTo>
                  <a:pt x="2207" y="316"/>
                </a:lnTo>
                <a:lnTo>
                  <a:pt x="2180" y="330"/>
                </a:lnTo>
                <a:lnTo>
                  <a:pt x="2162" y="322"/>
                </a:lnTo>
                <a:lnTo>
                  <a:pt x="2182" y="291"/>
                </a:lnTo>
                <a:lnTo>
                  <a:pt x="2176" y="280"/>
                </a:lnTo>
                <a:lnTo>
                  <a:pt x="2166" y="284"/>
                </a:lnTo>
                <a:lnTo>
                  <a:pt x="2139" y="320"/>
                </a:lnTo>
                <a:lnTo>
                  <a:pt x="2118" y="347"/>
                </a:lnTo>
                <a:lnTo>
                  <a:pt x="2098" y="378"/>
                </a:lnTo>
                <a:lnTo>
                  <a:pt x="2068" y="374"/>
                </a:lnTo>
                <a:lnTo>
                  <a:pt x="2057" y="340"/>
                </a:lnTo>
                <a:lnTo>
                  <a:pt x="2046" y="341"/>
                </a:lnTo>
                <a:lnTo>
                  <a:pt x="2036" y="367"/>
                </a:lnTo>
                <a:lnTo>
                  <a:pt x="2001" y="368"/>
                </a:lnTo>
                <a:lnTo>
                  <a:pt x="2038" y="316"/>
                </a:lnTo>
                <a:lnTo>
                  <a:pt x="2126" y="257"/>
                </a:lnTo>
                <a:lnTo>
                  <a:pt x="2131" y="242"/>
                </a:lnTo>
                <a:lnTo>
                  <a:pt x="2083" y="244"/>
                </a:lnTo>
                <a:lnTo>
                  <a:pt x="2033" y="225"/>
                </a:lnTo>
                <a:lnTo>
                  <a:pt x="2015" y="251"/>
                </a:lnTo>
                <a:lnTo>
                  <a:pt x="1977" y="236"/>
                </a:lnTo>
                <a:lnTo>
                  <a:pt x="1951" y="246"/>
                </a:lnTo>
                <a:lnTo>
                  <a:pt x="1935" y="216"/>
                </a:lnTo>
                <a:lnTo>
                  <a:pt x="1892" y="218"/>
                </a:lnTo>
                <a:lnTo>
                  <a:pt x="1879" y="232"/>
                </a:lnTo>
                <a:lnTo>
                  <a:pt x="1831" y="198"/>
                </a:lnTo>
                <a:lnTo>
                  <a:pt x="1824" y="166"/>
                </a:lnTo>
                <a:lnTo>
                  <a:pt x="1770" y="154"/>
                </a:lnTo>
                <a:lnTo>
                  <a:pt x="1794" y="198"/>
                </a:lnTo>
                <a:lnTo>
                  <a:pt x="978" y="169"/>
                </a:lnTo>
                <a:lnTo>
                  <a:pt x="928" y="155"/>
                </a:lnTo>
                <a:lnTo>
                  <a:pt x="841" y="143"/>
                </a:lnTo>
                <a:lnTo>
                  <a:pt x="731" y="125"/>
                </a:lnTo>
                <a:lnTo>
                  <a:pt x="593" y="111"/>
                </a:lnTo>
                <a:lnTo>
                  <a:pt x="541" y="100"/>
                </a:lnTo>
                <a:lnTo>
                  <a:pt x="466" y="87"/>
                </a:lnTo>
                <a:lnTo>
                  <a:pt x="412" y="74"/>
                </a:lnTo>
                <a:lnTo>
                  <a:pt x="269" y="27"/>
                </a:lnTo>
                <a:lnTo>
                  <a:pt x="260" y="32"/>
                </a:lnTo>
                <a:lnTo>
                  <a:pt x="263" y="53"/>
                </a:lnTo>
                <a:lnTo>
                  <a:pt x="272" y="77"/>
                </a:lnTo>
                <a:lnTo>
                  <a:pt x="264" y="89"/>
                </a:lnTo>
                <a:lnTo>
                  <a:pt x="255" y="98"/>
                </a:lnTo>
                <a:lnTo>
                  <a:pt x="260" y="116"/>
                </a:lnTo>
                <a:lnTo>
                  <a:pt x="282" y="154"/>
                </a:lnTo>
                <a:lnTo>
                  <a:pt x="264" y="179"/>
                </a:lnTo>
                <a:lnTo>
                  <a:pt x="255" y="212"/>
                </a:lnTo>
                <a:lnTo>
                  <a:pt x="232" y="212"/>
                </a:lnTo>
                <a:lnTo>
                  <a:pt x="251" y="197"/>
                </a:lnTo>
                <a:lnTo>
                  <a:pt x="258" y="179"/>
                </a:lnTo>
                <a:lnTo>
                  <a:pt x="253" y="163"/>
                </a:lnTo>
                <a:lnTo>
                  <a:pt x="242" y="158"/>
                </a:lnTo>
                <a:lnTo>
                  <a:pt x="246" y="146"/>
                </a:lnTo>
                <a:lnTo>
                  <a:pt x="263" y="151"/>
                </a:lnTo>
                <a:lnTo>
                  <a:pt x="263" y="141"/>
                </a:lnTo>
                <a:lnTo>
                  <a:pt x="253" y="113"/>
                </a:lnTo>
                <a:lnTo>
                  <a:pt x="240" y="111"/>
                </a:lnTo>
                <a:lnTo>
                  <a:pt x="213" y="107"/>
                </a:lnTo>
                <a:lnTo>
                  <a:pt x="193" y="85"/>
                </a:lnTo>
                <a:lnTo>
                  <a:pt x="179" y="74"/>
                </a:lnTo>
                <a:lnTo>
                  <a:pt x="163" y="67"/>
                </a:lnTo>
                <a:lnTo>
                  <a:pt x="152" y="87"/>
                </a:lnTo>
                <a:lnTo>
                  <a:pt x="159" y="118"/>
                </a:lnTo>
                <a:lnTo>
                  <a:pt x="163" y="144"/>
                </a:lnTo>
                <a:lnTo>
                  <a:pt x="160" y="177"/>
                </a:lnTo>
                <a:lnTo>
                  <a:pt x="159" y="205"/>
                </a:lnTo>
                <a:lnTo>
                  <a:pt x="163" y="216"/>
                </a:lnTo>
                <a:lnTo>
                  <a:pt x="173" y="238"/>
                </a:lnTo>
                <a:lnTo>
                  <a:pt x="163" y="253"/>
                </a:lnTo>
                <a:lnTo>
                  <a:pt x="163" y="266"/>
                </a:lnTo>
                <a:lnTo>
                  <a:pt x="165" y="289"/>
                </a:lnTo>
                <a:lnTo>
                  <a:pt x="150" y="297"/>
                </a:lnTo>
                <a:lnTo>
                  <a:pt x="139" y="348"/>
                </a:lnTo>
                <a:lnTo>
                  <a:pt x="128" y="394"/>
                </a:lnTo>
                <a:lnTo>
                  <a:pt x="112" y="441"/>
                </a:lnTo>
                <a:lnTo>
                  <a:pt x="91" y="477"/>
                </a:lnTo>
                <a:lnTo>
                  <a:pt x="72" y="525"/>
                </a:lnTo>
                <a:lnTo>
                  <a:pt x="52" y="555"/>
                </a:lnTo>
                <a:lnTo>
                  <a:pt x="52" y="626"/>
                </a:lnTo>
                <a:lnTo>
                  <a:pt x="52" y="689"/>
                </a:lnTo>
                <a:lnTo>
                  <a:pt x="45" y="714"/>
                </a:lnTo>
                <a:lnTo>
                  <a:pt x="25" y="754"/>
                </a:lnTo>
                <a:lnTo>
                  <a:pt x="0" y="797"/>
                </a:lnTo>
                <a:lnTo>
                  <a:pt x="25" y="853"/>
                </a:lnTo>
                <a:lnTo>
                  <a:pt x="18" y="900"/>
                </a:lnTo>
                <a:lnTo>
                  <a:pt x="11" y="932"/>
                </a:lnTo>
                <a:lnTo>
                  <a:pt x="32" y="988"/>
                </a:lnTo>
                <a:lnTo>
                  <a:pt x="47" y="1024"/>
                </a:lnTo>
                <a:lnTo>
                  <a:pt x="69" y="1040"/>
                </a:lnTo>
                <a:lnTo>
                  <a:pt x="90" y="1014"/>
                </a:lnTo>
                <a:lnTo>
                  <a:pt x="96" y="1031"/>
                </a:lnTo>
                <a:lnTo>
                  <a:pt x="103" y="1044"/>
                </a:lnTo>
                <a:lnTo>
                  <a:pt x="81" y="1047"/>
                </a:lnTo>
                <a:lnTo>
                  <a:pt x="83" y="1064"/>
                </a:lnTo>
                <a:lnTo>
                  <a:pt x="63" y="1054"/>
                </a:lnTo>
                <a:lnTo>
                  <a:pt x="66" y="1089"/>
                </a:lnTo>
                <a:lnTo>
                  <a:pt x="75" y="1119"/>
                </a:lnTo>
                <a:lnTo>
                  <a:pt x="78" y="1143"/>
                </a:lnTo>
                <a:lnTo>
                  <a:pt x="105" y="1137"/>
                </a:lnTo>
                <a:lnTo>
                  <a:pt x="101" y="1148"/>
                </a:lnTo>
                <a:lnTo>
                  <a:pt x="78" y="1165"/>
                </a:lnTo>
                <a:lnTo>
                  <a:pt x="78" y="1202"/>
                </a:lnTo>
                <a:lnTo>
                  <a:pt x="109" y="1238"/>
                </a:lnTo>
                <a:lnTo>
                  <a:pt x="121" y="1251"/>
                </a:lnTo>
                <a:lnTo>
                  <a:pt x="113" y="1265"/>
                </a:lnTo>
                <a:lnTo>
                  <a:pt x="123" y="1287"/>
                </a:lnTo>
                <a:lnTo>
                  <a:pt x="128" y="1313"/>
                </a:lnTo>
                <a:lnTo>
                  <a:pt x="136" y="1329"/>
                </a:lnTo>
                <a:lnTo>
                  <a:pt x="141" y="1349"/>
                </a:lnTo>
                <a:lnTo>
                  <a:pt x="142" y="1369"/>
                </a:lnTo>
                <a:lnTo>
                  <a:pt x="136" y="1382"/>
                </a:lnTo>
                <a:lnTo>
                  <a:pt x="157" y="1388"/>
                </a:lnTo>
                <a:lnTo>
                  <a:pt x="176" y="1390"/>
                </a:lnTo>
                <a:lnTo>
                  <a:pt x="193" y="1385"/>
                </a:lnTo>
                <a:lnTo>
                  <a:pt x="213" y="1388"/>
                </a:lnTo>
                <a:lnTo>
                  <a:pt x="219" y="1407"/>
                </a:lnTo>
                <a:lnTo>
                  <a:pt x="223" y="1422"/>
                </a:lnTo>
                <a:lnTo>
                  <a:pt x="244" y="1447"/>
                </a:lnTo>
                <a:lnTo>
                  <a:pt x="253" y="1457"/>
                </a:lnTo>
                <a:lnTo>
                  <a:pt x="263" y="1477"/>
                </a:lnTo>
                <a:lnTo>
                  <a:pt x="264" y="1489"/>
                </a:lnTo>
                <a:lnTo>
                  <a:pt x="284" y="1502"/>
                </a:lnTo>
                <a:lnTo>
                  <a:pt x="301" y="1519"/>
                </a:lnTo>
                <a:lnTo>
                  <a:pt x="318" y="1548"/>
                </a:lnTo>
                <a:lnTo>
                  <a:pt x="322" y="1585"/>
                </a:lnTo>
                <a:lnTo>
                  <a:pt x="320" y="1605"/>
                </a:lnTo>
                <a:lnTo>
                  <a:pt x="338" y="1609"/>
                </a:lnTo>
                <a:lnTo>
                  <a:pt x="358" y="1603"/>
                </a:lnTo>
                <a:lnTo>
                  <a:pt x="376" y="1602"/>
                </a:lnTo>
                <a:lnTo>
                  <a:pt x="405" y="1603"/>
                </a:lnTo>
                <a:lnTo>
                  <a:pt x="432" y="1605"/>
                </a:lnTo>
                <a:lnTo>
                  <a:pt x="471" y="1605"/>
                </a:lnTo>
                <a:lnTo>
                  <a:pt x="495" y="1609"/>
                </a:lnTo>
                <a:lnTo>
                  <a:pt x="500" y="1625"/>
                </a:lnTo>
                <a:lnTo>
                  <a:pt x="494" y="1641"/>
                </a:lnTo>
                <a:lnTo>
                  <a:pt x="524" y="1663"/>
                </a:lnTo>
                <a:lnTo>
                  <a:pt x="555" y="1680"/>
                </a:lnTo>
                <a:lnTo>
                  <a:pt x="612" y="1713"/>
                </a:lnTo>
                <a:lnTo>
                  <a:pt x="655" y="1739"/>
                </a:lnTo>
                <a:lnTo>
                  <a:pt x="702" y="1758"/>
                </a:lnTo>
                <a:lnTo>
                  <a:pt x="750" y="1777"/>
                </a:lnTo>
                <a:lnTo>
                  <a:pt x="781" y="1779"/>
                </a:lnTo>
                <a:lnTo>
                  <a:pt x="809" y="1776"/>
                </a:lnTo>
                <a:lnTo>
                  <a:pt x="852" y="1781"/>
                </a:lnTo>
                <a:lnTo>
                  <a:pt x="880" y="1786"/>
                </a:lnTo>
                <a:lnTo>
                  <a:pt x="910" y="1783"/>
                </a:lnTo>
                <a:lnTo>
                  <a:pt x="939" y="1791"/>
                </a:lnTo>
                <a:lnTo>
                  <a:pt x="964" y="1789"/>
                </a:lnTo>
                <a:lnTo>
                  <a:pt x="967" y="1752"/>
                </a:lnTo>
                <a:lnTo>
                  <a:pt x="1011" y="1757"/>
                </a:lnTo>
                <a:lnTo>
                  <a:pt x="1063" y="1758"/>
                </a:lnTo>
                <a:lnTo>
                  <a:pt x="1105" y="1812"/>
                </a:lnTo>
                <a:lnTo>
                  <a:pt x="1155" y="1858"/>
                </a:lnTo>
                <a:lnTo>
                  <a:pt x="1184" y="1893"/>
                </a:lnTo>
                <a:lnTo>
                  <a:pt x="1185" y="1923"/>
                </a:lnTo>
                <a:lnTo>
                  <a:pt x="1195" y="1957"/>
                </a:lnTo>
                <a:lnTo>
                  <a:pt x="1214" y="1979"/>
                </a:lnTo>
                <a:lnTo>
                  <a:pt x="1235" y="2001"/>
                </a:lnTo>
                <a:lnTo>
                  <a:pt x="1295" y="2042"/>
                </a:lnTo>
                <a:lnTo>
                  <a:pt x="1316" y="2036"/>
                </a:lnTo>
                <a:lnTo>
                  <a:pt x="1328" y="2024"/>
                </a:lnTo>
                <a:lnTo>
                  <a:pt x="1335" y="1999"/>
                </a:lnTo>
                <a:lnTo>
                  <a:pt x="1341" y="1979"/>
                </a:lnTo>
                <a:lnTo>
                  <a:pt x="1364" y="1978"/>
                </a:lnTo>
                <a:lnTo>
                  <a:pt x="1390" y="1979"/>
                </a:lnTo>
                <a:lnTo>
                  <a:pt x="1424" y="1987"/>
                </a:lnTo>
                <a:lnTo>
                  <a:pt x="1443" y="2003"/>
                </a:lnTo>
                <a:lnTo>
                  <a:pt x="1468" y="2014"/>
                </a:lnTo>
                <a:lnTo>
                  <a:pt x="1475" y="2034"/>
                </a:lnTo>
                <a:lnTo>
                  <a:pt x="1488" y="2066"/>
                </a:lnTo>
                <a:lnTo>
                  <a:pt x="1500" y="2097"/>
                </a:lnTo>
                <a:lnTo>
                  <a:pt x="1514" y="2121"/>
                </a:lnTo>
                <a:lnTo>
                  <a:pt x="1540" y="2137"/>
                </a:lnTo>
                <a:lnTo>
                  <a:pt x="1560" y="2162"/>
                </a:lnTo>
                <a:lnTo>
                  <a:pt x="1569" y="2197"/>
                </a:lnTo>
                <a:lnTo>
                  <a:pt x="1576" y="2224"/>
                </a:lnTo>
                <a:lnTo>
                  <a:pt x="1593" y="2272"/>
                </a:lnTo>
                <a:lnTo>
                  <a:pt x="1616" y="2277"/>
                </a:lnTo>
                <a:lnTo>
                  <a:pt x="1642" y="2289"/>
                </a:lnTo>
                <a:lnTo>
                  <a:pt x="1669" y="2296"/>
                </a:lnTo>
                <a:lnTo>
                  <a:pt x="1703" y="2298"/>
                </a:lnTo>
                <a:lnTo>
                  <a:pt x="1723" y="2313"/>
                </a:lnTo>
                <a:lnTo>
                  <a:pt x="1770" y="2310"/>
                </a:lnTo>
                <a:lnTo>
                  <a:pt x="1772" y="2274"/>
                </a:lnTo>
                <a:lnTo>
                  <a:pt x="1746" y="2247"/>
                </a:lnTo>
                <a:lnTo>
                  <a:pt x="1741" y="2208"/>
                </a:lnTo>
                <a:lnTo>
                  <a:pt x="1760" y="2182"/>
                </a:lnTo>
                <a:lnTo>
                  <a:pt x="1759" y="2153"/>
                </a:lnTo>
                <a:lnTo>
                  <a:pt x="1766" y="2146"/>
                </a:lnTo>
                <a:lnTo>
                  <a:pt x="1768" y="2124"/>
                </a:lnTo>
                <a:lnTo>
                  <a:pt x="1784" y="2113"/>
                </a:lnTo>
                <a:lnTo>
                  <a:pt x="1815" y="2089"/>
                </a:lnTo>
                <a:lnTo>
                  <a:pt x="1831" y="2089"/>
                </a:lnTo>
                <a:lnTo>
                  <a:pt x="1869" y="2063"/>
                </a:lnTo>
                <a:lnTo>
                  <a:pt x="1892" y="2039"/>
                </a:lnTo>
                <a:lnTo>
                  <a:pt x="1929" y="2014"/>
                </a:lnTo>
                <a:lnTo>
                  <a:pt x="1920" y="1983"/>
                </a:lnTo>
                <a:lnTo>
                  <a:pt x="1929" y="1975"/>
                </a:lnTo>
                <a:lnTo>
                  <a:pt x="1939" y="2008"/>
                </a:lnTo>
                <a:lnTo>
                  <a:pt x="1990" y="1960"/>
                </a:lnTo>
                <a:lnTo>
                  <a:pt x="2032" y="1961"/>
                </a:lnTo>
                <a:lnTo>
                  <a:pt x="2088" y="1975"/>
                </a:lnTo>
                <a:lnTo>
                  <a:pt x="2132" y="1967"/>
                </a:lnTo>
                <a:lnTo>
                  <a:pt x="2153" y="1965"/>
                </a:lnTo>
                <a:lnTo>
                  <a:pt x="2142" y="1943"/>
                </a:lnTo>
                <a:lnTo>
                  <a:pt x="2161" y="1945"/>
                </a:lnTo>
                <a:lnTo>
                  <a:pt x="2174" y="1963"/>
                </a:lnTo>
                <a:lnTo>
                  <a:pt x="2174" y="1978"/>
                </a:lnTo>
                <a:lnTo>
                  <a:pt x="2216" y="1981"/>
                </a:lnTo>
                <a:lnTo>
                  <a:pt x="2236" y="1983"/>
                </a:lnTo>
                <a:lnTo>
                  <a:pt x="2245" y="1973"/>
                </a:lnTo>
                <a:lnTo>
                  <a:pt x="2260" y="1990"/>
                </a:lnTo>
                <a:lnTo>
                  <a:pt x="2274" y="1994"/>
                </a:lnTo>
                <a:lnTo>
                  <a:pt x="2291" y="1990"/>
                </a:lnTo>
                <a:lnTo>
                  <a:pt x="2278" y="1965"/>
                </a:lnTo>
                <a:lnTo>
                  <a:pt x="2298" y="1963"/>
                </a:lnTo>
                <a:lnTo>
                  <a:pt x="2310" y="1970"/>
                </a:lnTo>
                <a:lnTo>
                  <a:pt x="2328" y="1986"/>
                </a:lnTo>
                <a:lnTo>
                  <a:pt x="2341" y="1981"/>
                </a:lnTo>
                <a:lnTo>
                  <a:pt x="2353" y="1966"/>
                </a:lnTo>
                <a:lnTo>
                  <a:pt x="2345" y="1945"/>
                </a:lnTo>
                <a:lnTo>
                  <a:pt x="2327" y="1939"/>
                </a:lnTo>
                <a:lnTo>
                  <a:pt x="2316" y="1927"/>
                </a:lnTo>
                <a:lnTo>
                  <a:pt x="2324" y="1906"/>
                </a:lnTo>
                <a:lnTo>
                  <a:pt x="2323" y="1886"/>
                </a:lnTo>
                <a:lnTo>
                  <a:pt x="2305" y="1886"/>
                </a:lnTo>
                <a:lnTo>
                  <a:pt x="2287" y="1906"/>
                </a:lnTo>
                <a:lnTo>
                  <a:pt x="2286" y="1880"/>
                </a:lnTo>
                <a:lnTo>
                  <a:pt x="2263" y="1895"/>
                </a:lnTo>
                <a:lnTo>
                  <a:pt x="2245" y="1902"/>
                </a:lnTo>
                <a:lnTo>
                  <a:pt x="2237" y="1888"/>
                </a:lnTo>
                <a:lnTo>
                  <a:pt x="2254" y="1865"/>
                </a:lnTo>
                <a:lnTo>
                  <a:pt x="2310" y="1878"/>
                </a:lnTo>
                <a:lnTo>
                  <a:pt x="2323" y="1853"/>
                </a:lnTo>
                <a:lnTo>
                  <a:pt x="2352" y="1844"/>
                </a:lnTo>
                <a:lnTo>
                  <a:pt x="2385" y="1853"/>
                </a:lnTo>
                <a:lnTo>
                  <a:pt x="2397" y="1844"/>
                </a:lnTo>
                <a:lnTo>
                  <a:pt x="2397" y="1814"/>
                </a:lnTo>
                <a:lnTo>
                  <a:pt x="2414" y="1851"/>
                </a:lnTo>
                <a:lnTo>
                  <a:pt x="2419" y="1865"/>
                </a:lnTo>
                <a:lnTo>
                  <a:pt x="2444" y="1850"/>
                </a:lnTo>
                <a:lnTo>
                  <a:pt x="2464" y="1826"/>
                </a:lnTo>
                <a:lnTo>
                  <a:pt x="2473" y="1841"/>
                </a:lnTo>
                <a:lnTo>
                  <a:pt x="2489" y="1847"/>
                </a:lnTo>
                <a:lnTo>
                  <a:pt x="2515" y="1835"/>
                </a:lnTo>
                <a:lnTo>
                  <a:pt x="2571" y="1824"/>
                </a:lnTo>
                <a:lnTo>
                  <a:pt x="2582" y="1838"/>
                </a:lnTo>
                <a:lnTo>
                  <a:pt x="2596" y="1855"/>
                </a:lnTo>
                <a:lnTo>
                  <a:pt x="2618" y="1860"/>
                </a:lnTo>
                <a:lnTo>
                  <a:pt x="2640" y="1862"/>
                </a:lnTo>
                <a:lnTo>
                  <a:pt x="2666" y="1851"/>
                </a:lnTo>
                <a:lnTo>
                  <a:pt x="2683" y="1833"/>
                </a:lnTo>
                <a:lnTo>
                  <a:pt x="2697" y="1827"/>
                </a:lnTo>
                <a:lnTo>
                  <a:pt x="2708" y="1835"/>
                </a:lnTo>
                <a:lnTo>
                  <a:pt x="2722" y="1851"/>
                </a:lnTo>
                <a:lnTo>
                  <a:pt x="2742" y="1871"/>
                </a:lnTo>
                <a:lnTo>
                  <a:pt x="2762" y="1878"/>
                </a:lnTo>
                <a:lnTo>
                  <a:pt x="2778" y="1881"/>
                </a:lnTo>
                <a:lnTo>
                  <a:pt x="2795" y="1901"/>
                </a:lnTo>
                <a:lnTo>
                  <a:pt x="2807" y="1923"/>
                </a:lnTo>
                <a:lnTo>
                  <a:pt x="2821" y="1939"/>
                </a:lnTo>
                <a:lnTo>
                  <a:pt x="2815" y="1970"/>
                </a:lnTo>
                <a:lnTo>
                  <a:pt x="2816" y="1996"/>
                </a:lnTo>
                <a:lnTo>
                  <a:pt x="2816" y="2014"/>
                </a:lnTo>
                <a:lnTo>
                  <a:pt x="2822" y="2029"/>
                </a:lnTo>
                <a:lnTo>
                  <a:pt x="2831" y="2031"/>
                </a:lnTo>
                <a:lnTo>
                  <a:pt x="2836" y="2004"/>
                </a:lnTo>
                <a:lnTo>
                  <a:pt x="2849" y="2019"/>
                </a:lnTo>
                <a:lnTo>
                  <a:pt x="2838" y="2041"/>
                </a:lnTo>
                <a:lnTo>
                  <a:pt x="2836" y="2059"/>
                </a:lnTo>
                <a:lnTo>
                  <a:pt x="2847" y="2068"/>
                </a:lnTo>
                <a:lnTo>
                  <a:pt x="2869" y="2092"/>
                </a:lnTo>
                <a:lnTo>
                  <a:pt x="2887" y="2097"/>
                </a:lnTo>
                <a:lnTo>
                  <a:pt x="2896" y="2128"/>
                </a:lnTo>
                <a:lnTo>
                  <a:pt x="2907" y="2134"/>
                </a:lnTo>
                <a:lnTo>
                  <a:pt x="2923" y="2167"/>
                </a:lnTo>
                <a:lnTo>
                  <a:pt x="2946" y="2179"/>
                </a:lnTo>
                <a:lnTo>
                  <a:pt x="2967" y="2188"/>
                </a:lnTo>
                <a:lnTo>
                  <a:pt x="2981" y="2214"/>
                </a:lnTo>
                <a:lnTo>
                  <a:pt x="3012" y="2208"/>
                </a:lnTo>
                <a:lnTo>
                  <a:pt x="3053" y="2199"/>
                </a:lnTo>
                <a:lnTo>
                  <a:pt x="3064" y="2149"/>
                </a:lnTo>
                <a:lnTo>
                  <a:pt x="3058" y="2116"/>
                </a:lnTo>
                <a:lnTo>
                  <a:pt x="3058" y="2060"/>
                </a:lnTo>
                <a:lnTo>
                  <a:pt x="3047" y="2044"/>
                </a:lnTo>
                <a:lnTo>
                  <a:pt x="3026" y="2016"/>
                </a:lnTo>
                <a:lnTo>
                  <a:pt x="3008" y="1986"/>
                </a:lnTo>
                <a:lnTo>
                  <a:pt x="2991" y="1947"/>
                </a:lnTo>
                <a:lnTo>
                  <a:pt x="2975" y="1903"/>
                </a:lnTo>
                <a:lnTo>
                  <a:pt x="2950" y="1862"/>
                </a:lnTo>
                <a:lnTo>
                  <a:pt x="2930" y="1833"/>
                </a:lnTo>
                <a:lnTo>
                  <a:pt x="2905" y="1792"/>
                </a:lnTo>
                <a:lnTo>
                  <a:pt x="2887" y="1757"/>
                </a:lnTo>
                <a:lnTo>
                  <a:pt x="2880" y="1727"/>
                </a:lnTo>
                <a:lnTo>
                  <a:pt x="2878" y="1704"/>
                </a:lnTo>
                <a:lnTo>
                  <a:pt x="2881" y="1684"/>
                </a:lnTo>
                <a:lnTo>
                  <a:pt x="2885" y="1676"/>
                </a:lnTo>
                <a:lnTo>
                  <a:pt x="2887" y="1628"/>
                </a:lnTo>
                <a:lnTo>
                  <a:pt x="2910" y="1584"/>
                </a:lnTo>
                <a:lnTo>
                  <a:pt x="2905" y="1556"/>
                </a:lnTo>
                <a:lnTo>
                  <a:pt x="2941" y="1546"/>
                </a:lnTo>
                <a:lnTo>
                  <a:pt x="2986" y="1497"/>
                </a:lnTo>
                <a:lnTo>
                  <a:pt x="3010" y="1418"/>
                </a:lnTo>
                <a:lnTo>
                  <a:pt x="3068" y="1390"/>
                </a:lnTo>
                <a:lnTo>
                  <a:pt x="3102" y="1316"/>
                </a:lnTo>
                <a:lnTo>
                  <a:pt x="3159" y="1294"/>
                </a:lnTo>
                <a:lnTo>
                  <a:pt x="3187" y="1238"/>
                </a:lnTo>
                <a:lnTo>
                  <a:pt x="3187" y="1198"/>
                </a:lnTo>
                <a:lnTo>
                  <a:pt x="3188" y="1164"/>
                </a:lnTo>
                <a:lnTo>
                  <a:pt x="3174" y="1165"/>
                </a:lnTo>
                <a:lnTo>
                  <a:pt x="3174" y="1223"/>
                </a:lnTo>
                <a:lnTo>
                  <a:pt x="3140" y="1265"/>
                </a:lnTo>
                <a:lnTo>
                  <a:pt x="3092" y="1276"/>
                </a:lnTo>
                <a:lnTo>
                  <a:pt x="3138" y="1251"/>
                </a:lnTo>
                <a:lnTo>
                  <a:pt x="3111" y="1238"/>
                </a:lnTo>
                <a:lnTo>
                  <a:pt x="3138" y="1232"/>
                </a:lnTo>
                <a:lnTo>
                  <a:pt x="3154" y="1233"/>
                </a:lnTo>
                <a:lnTo>
                  <a:pt x="3162" y="1200"/>
                </a:lnTo>
                <a:lnTo>
                  <a:pt x="3159" y="1169"/>
                </a:lnTo>
                <a:lnTo>
                  <a:pt x="3135" y="1169"/>
                </a:lnTo>
                <a:lnTo>
                  <a:pt x="3098" y="1185"/>
                </a:lnTo>
                <a:lnTo>
                  <a:pt x="3100" y="1155"/>
                </a:lnTo>
                <a:lnTo>
                  <a:pt x="3119" y="1167"/>
                </a:lnTo>
                <a:lnTo>
                  <a:pt x="3151" y="1151"/>
                </a:lnTo>
                <a:lnTo>
                  <a:pt x="3156" y="1136"/>
                </a:lnTo>
                <a:lnTo>
                  <a:pt x="3133" y="1127"/>
                </a:lnTo>
                <a:lnTo>
                  <a:pt x="3136" y="1092"/>
                </a:lnTo>
                <a:lnTo>
                  <a:pt x="3111" y="1078"/>
                </a:lnTo>
                <a:lnTo>
                  <a:pt x="3103" y="1090"/>
                </a:lnTo>
                <a:lnTo>
                  <a:pt x="3095" y="1065"/>
                </a:lnTo>
                <a:lnTo>
                  <a:pt x="3098" y="1039"/>
                </a:lnTo>
                <a:lnTo>
                  <a:pt x="3102" y="1011"/>
                </a:lnTo>
                <a:lnTo>
                  <a:pt x="3058" y="991"/>
                </a:lnTo>
                <a:lnTo>
                  <a:pt x="3070" y="985"/>
                </a:lnTo>
                <a:lnTo>
                  <a:pt x="3060" y="925"/>
                </a:lnTo>
                <a:lnTo>
                  <a:pt x="3058" y="891"/>
                </a:lnTo>
                <a:lnTo>
                  <a:pt x="3066" y="881"/>
                </a:lnTo>
                <a:lnTo>
                  <a:pt x="3068" y="931"/>
                </a:lnTo>
                <a:lnTo>
                  <a:pt x="3084" y="964"/>
                </a:lnTo>
                <a:lnTo>
                  <a:pt x="3109" y="996"/>
                </a:lnTo>
                <a:lnTo>
                  <a:pt x="3109" y="1057"/>
                </a:lnTo>
                <a:lnTo>
                  <a:pt x="3136" y="1062"/>
                </a:lnTo>
                <a:lnTo>
                  <a:pt x="3159" y="1000"/>
                </a:lnTo>
                <a:lnTo>
                  <a:pt x="3158" y="913"/>
                </a:lnTo>
                <a:lnTo>
                  <a:pt x="3129" y="888"/>
                </a:lnTo>
                <a:lnTo>
                  <a:pt x="3131" y="869"/>
                </a:lnTo>
                <a:lnTo>
                  <a:pt x="3165" y="889"/>
                </a:lnTo>
                <a:lnTo>
                  <a:pt x="3183" y="844"/>
                </a:lnTo>
                <a:lnTo>
                  <a:pt x="3185" y="806"/>
                </a:lnTo>
                <a:lnTo>
                  <a:pt x="3185" y="740"/>
                </a:lnTo>
                <a:lnTo>
                  <a:pt x="3169" y="720"/>
                </a:lnTo>
                <a:lnTo>
                  <a:pt x="3176" y="704"/>
                </a:lnTo>
                <a:lnTo>
                  <a:pt x="3189" y="722"/>
                </a:lnTo>
                <a:lnTo>
                  <a:pt x="3260" y="681"/>
                </a:lnTo>
                <a:lnTo>
                  <a:pt x="3310" y="636"/>
                </a:lnTo>
                <a:lnTo>
                  <a:pt x="3272" y="632"/>
                </a:lnTo>
                <a:lnTo>
                  <a:pt x="3219" y="667"/>
                </a:lnTo>
                <a:lnTo>
                  <a:pt x="3185" y="683"/>
                </a:lnTo>
                <a:lnTo>
                  <a:pt x="3209" y="648"/>
                </a:lnTo>
                <a:lnTo>
                  <a:pt x="3233" y="632"/>
                </a:lnTo>
                <a:lnTo>
                  <a:pt x="3247" y="638"/>
                </a:lnTo>
                <a:lnTo>
                  <a:pt x="3286" y="615"/>
                </a:lnTo>
                <a:lnTo>
                  <a:pt x="3294" y="594"/>
                </a:lnTo>
                <a:lnTo>
                  <a:pt x="3305" y="594"/>
                </a:lnTo>
                <a:lnTo>
                  <a:pt x="3319" y="583"/>
                </a:lnTo>
                <a:lnTo>
                  <a:pt x="3337" y="561"/>
                </a:lnTo>
                <a:lnTo>
                  <a:pt x="3366" y="574"/>
                </a:lnTo>
                <a:lnTo>
                  <a:pt x="3380" y="558"/>
                </a:lnTo>
                <a:lnTo>
                  <a:pt x="3393" y="537"/>
                </a:lnTo>
                <a:lnTo>
                  <a:pt x="3380" y="510"/>
                </a:lnTo>
                <a:lnTo>
                  <a:pt x="3362" y="493"/>
                </a:lnTo>
                <a:lnTo>
                  <a:pt x="3352" y="492"/>
                </a:lnTo>
                <a:lnTo>
                  <a:pt x="3338" y="499"/>
                </a:lnTo>
                <a:lnTo>
                  <a:pt x="3352" y="522"/>
                </a:lnTo>
                <a:lnTo>
                  <a:pt x="3358" y="536"/>
                </a:lnTo>
                <a:lnTo>
                  <a:pt x="3342" y="535"/>
                </a:lnTo>
                <a:lnTo>
                  <a:pt x="3324" y="508"/>
                </a:lnTo>
                <a:lnTo>
                  <a:pt x="3306" y="513"/>
                </a:lnTo>
                <a:lnTo>
                  <a:pt x="3310" y="493"/>
                </a:lnTo>
                <a:lnTo>
                  <a:pt x="3318" y="472"/>
                </a:lnTo>
                <a:lnTo>
                  <a:pt x="3303" y="469"/>
                </a:lnTo>
                <a:lnTo>
                  <a:pt x="3316" y="428"/>
                </a:lnTo>
                <a:lnTo>
                  <a:pt x="3312" y="403"/>
                </a:lnTo>
                <a:lnTo>
                  <a:pt x="3329" y="385"/>
                </a:lnTo>
                <a:lnTo>
                  <a:pt x="3319" y="359"/>
                </a:lnTo>
                <a:lnTo>
                  <a:pt x="3337" y="347"/>
                </a:lnTo>
                <a:lnTo>
                  <a:pt x="3356" y="331"/>
                </a:lnTo>
                <a:lnTo>
                  <a:pt x="3373" y="325"/>
                </a:lnTo>
                <a:lnTo>
                  <a:pt x="3380" y="284"/>
                </a:lnTo>
                <a:lnTo>
                  <a:pt x="3399" y="284"/>
                </a:lnTo>
                <a:lnTo>
                  <a:pt x="3427" y="263"/>
                </a:lnTo>
                <a:lnTo>
                  <a:pt x="3440" y="242"/>
                </a:lnTo>
                <a:lnTo>
                  <a:pt x="3462" y="222"/>
                </a:lnTo>
                <a:lnTo>
                  <a:pt x="3459" y="195"/>
                </a:lnTo>
                <a:lnTo>
                  <a:pt x="3428" y="181"/>
                </a:lnTo>
                <a:lnTo>
                  <a:pt x="3411" y="154"/>
                </a:lnTo>
                <a:lnTo>
                  <a:pt x="3378" y="154"/>
                </a:lnTo>
                <a:lnTo>
                  <a:pt x="3364" y="121"/>
                </a:lnTo>
                <a:lnTo>
                  <a:pt x="3359" y="87"/>
                </a:lnTo>
                <a:lnTo>
                  <a:pt x="3350" y="54"/>
                </a:lnTo>
                <a:lnTo>
                  <a:pt x="3337" y="13"/>
                </a:lnTo>
              </a:path>
            </a:pathLst>
          </a:custGeom>
          <a:solidFill>
            <a:srgbClr val="00808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EE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741760" y="1743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Berke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35920" y="2155680"/>
            <a:ext cx="1148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0040" y="209556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1680" y="2460600"/>
            <a:ext cx="130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rth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19320" y="1776240"/>
            <a:ext cx="101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digit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y emerg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Synthesis Coalition (1990 - 199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database of multimedia course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level courseware evaluation system Community of Engineering Educ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B0F9-2832-4E28-9B0D-250955A1B1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ww.needs.org - cont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965C-7A66-41C7-81EC-467C163EA3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ww.needs.org - communitie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978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- a group of individuals who engage in communication through a common bon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y prefer to learn where they are a member of a community that is built upon shared values and interests regarding teaching, learning, and pedag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Provide faculty a means to learn from one another unconstrained by barriers of time, distance, technology, and ge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2DDB-203C-490B-A82A-B7F61FFE2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earch Ques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4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dagog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should communication tools be incorporated into an existing digital library to maximize user benefit?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2640" y="3657240"/>
            <a:ext cx="7162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form of  on-line communication is most suitable for a digital learning place for faculty in engineering edu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B824-B45E-4758-975E-ADEC960036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Discus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27" name="phorum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A326-8A62-4C6F-8479-1D698B2401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Discus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dagogy -Cen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earning Object-Cen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3048120"/>
            <a:ext cx="6781680" cy="3105000"/>
            <a:chOff x="1066680" y="3048120"/>
            <a:chExt cx="6781680" cy="3105000"/>
          </a:xfrm>
        </p:grpSpPr>
        <p:grpSp>
          <p:nvGrpSpPr>
            <p:cNvPr id="132" name=""/>
            <p:cNvGrpSpPr/>
            <p:nvPr/>
          </p:nvGrpSpPr>
          <p:grpSpPr>
            <a:xfrm>
              <a:off x="1066680" y="3048120"/>
              <a:ext cx="2928240" cy="3105000"/>
              <a:chOff x="1066680" y="3048120"/>
              <a:chExt cx="2928240" cy="310500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20760" y="5894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20760" y="537696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20760" y="4859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20760" y="4083120"/>
                <a:ext cx="0" cy="18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66680" y="3048120"/>
                <a:ext cx="246600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20760" y="3177360"/>
                <a:ext cx="2003760" cy="38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83000" y="4730040"/>
                <a:ext cx="231192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83000" y="5247360"/>
                <a:ext cx="231192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83000" y="5765040"/>
                <a:ext cx="231192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 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20760" y="369468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edago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382360" y="3048120"/>
              <a:ext cx="2466000" cy="3105000"/>
              <a:chOff x="5382360" y="3048120"/>
              <a:chExt cx="2466000" cy="310500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5536440" y="5894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5536440" y="537696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536440" y="4859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36440" y="4083120"/>
                <a:ext cx="0" cy="18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82360" y="3048120"/>
                <a:ext cx="246600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36440" y="3177360"/>
                <a:ext cx="2003400" cy="38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98680" y="473004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cept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98680" y="524736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cept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98680" y="576504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cept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36440" y="3694680"/>
                <a:ext cx="215784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7741-AA6F-4742-BCCD-88C10A2FE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r Study Method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discu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Object – Disk Drive Dissection and Cas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dagogical – Mechanical Dissection and Integrated Multimedia Case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9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ated over 2 - wee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tation and remi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72E8-0992-43A0-9C29-97539D5A3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8:43:56Z</dcterms:created>
  <dc:creator>NEEDS</dc:creator>
  <dc:description/>
  <dc:language>en-US</dc:language>
  <cp:lastModifiedBy>Brandon</cp:lastModifiedBy>
  <cp:lastPrinted>2000-06-13T19:56:17Z</cp:lastPrinted>
  <dcterms:modified xsi:type="dcterms:W3CDTF">2000-07-07T03:37:10Z</dcterms:modified>
  <cp:revision>84</cp:revision>
  <dc:subject/>
  <dc:title>The Role of On-line Communication and Community in a Digital Library</dc:title>
</cp:coreProperties>
</file>